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F864-D054-4C2C-875E-EE315AD7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FD5A-678E-4080-A1C9-C3EDE0EA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3716-FBA2-4C3D-B88E-8C27356C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61C2-256F-489D-AB0A-349318CA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5430-7D4C-41F5-9283-554318A0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121B-14AD-4285-A217-A36D57C8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7BEF-40E3-4D23-9256-0E2F32C5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4F91-B0C8-4A6C-A3A8-E89EB8A9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6FBF-DF43-4302-87A8-736768C8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015E-8EA6-4106-A59F-4FED716A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3FAA-2200-4D80-B5A8-6013D34C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A186-FBCD-4E06-8262-5C951898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B9A4-FA21-4FFC-8EDD-42380809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2DAE-8C6A-47FF-8B60-F6FDC5F0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E58E-B92C-4107-BBC4-CCE91A18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1628-979F-48F2-A412-BE21C7BA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2624-82BC-462A-91CC-3ABFCBAD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EE69-B1FF-4806-8001-49DE98A8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9168-38DE-41EE-AB42-55DEC584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858C-A513-4243-B60E-DB86F916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171C-A8EF-4EF3-B293-301DEB48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D5D4-E6F8-4A36-90F9-1AF029A1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001B-F894-4B31-A213-63FA88EF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49C7-0155-4EDD-AC50-74687DE6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454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e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8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c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8383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5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e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49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8686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14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6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8a8a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c4a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1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3e3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6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9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c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4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c5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8a8a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C64D-9C59-4E95-ACC7-B2B5F24A3F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454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e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8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c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8383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5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e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49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8686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14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6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8a8a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c4a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1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3e3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6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9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c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4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c5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8a8a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8BE9-01E8-4405-8246-0E4314423E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352b8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j03885070000%5B1%5D.wav" TargetMode="External"/><Relationship Id="rId2" Type="http://schemas.microsoft.com/office/2007/relationships/media" Target="file:///tmp/home/.config/libreoffice/4/user/gallery/MSj03885070000%5B1%5D.wa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Clarendon Condensed"/>
              </a:rPr>
              <a:t>Objective:</a:t>
            </a:r>
            <a:br>
              <a:rPr sz="4400"/>
            </a:br>
            <a:r>
              <a:rPr b="0" lang="en-US" sz="4400" spc="-1" strike="noStrike">
                <a:solidFill>
                  <a:srgbClr val="e2efcd"/>
                </a:solidFill>
                <a:latin typeface="Clarendon Condensed"/>
              </a:rPr>
              <a:t>To identify transformations in figures.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t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14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2efcd"/>
                </a:solidFill>
                <a:latin typeface="Arial"/>
              </a:rPr>
              <a:t>Warm-up</a:t>
            </a: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Rotation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igure is rotated (turned) through a given angle about a given poin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2895480"/>
            <a:ext cx="2133720" cy="175284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385200 h 1752840"/>
              <a:gd name="textAreaBottom" fmla="*/ 136764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4191120"/>
            <a:ext cx="914400" cy="609480"/>
          </a:xfrm>
          <a:custGeom>
            <a:avLst/>
            <a:gdLst>
              <a:gd name="textAreaLeft" fmla="*/ 0 w 914400"/>
              <a:gd name="textAreaRight" fmla="*/ 914760 w 9144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662670"/>
                <a:lnTo>
                  <a:pt x="9976" y="32"/>
                </a:lnTo>
                <a:arcTo wR="10800" hR="10800" stAng="-5662670" swAng="566267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3314520" y="4762440"/>
            <a:ext cx="2133720" cy="175248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385200 h 1752480"/>
              <a:gd name="textAreaBottom" fmla="*/ 13672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52880" y="511812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152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5000" y="15228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:  Students will rotate fig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Rotation - 90</a:t>
            </a:r>
            <a:r>
              <a:rPr b="0" lang="en-US" sz="4400" spc="-1" strike="noStrike" baseline="30000">
                <a:solidFill>
                  <a:srgbClr val="e2efcd"/>
                </a:solidFill>
                <a:latin typeface="Arial"/>
              </a:rPr>
              <a:t>o</a:t>
            </a: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 or 180</a:t>
            </a:r>
            <a:r>
              <a:rPr b="0" lang="en-US" sz="4400" spc="-1" strike="noStrike" baseline="30000">
                <a:solidFill>
                  <a:srgbClr val="e2efcd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igure is rotated (turned) in a direction and is named by the degree of the tur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2666880"/>
            <a:ext cx="2133720" cy="175284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385200 h 1752840"/>
              <a:gd name="textAreaBottom" fmla="*/ 136764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7695720" y="4038480"/>
            <a:ext cx="914400" cy="609480"/>
          </a:xfrm>
          <a:custGeom>
            <a:avLst/>
            <a:gdLst>
              <a:gd name="textAreaLeft" fmla="*/ 0 w 914400"/>
              <a:gd name="textAreaRight" fmla="*/ 914760 w 9144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2018880" y="4686120"/>
            <a:ext cx="2133720" cy="175284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385200 h 1752840"/>
              <a:gd name="textAreaBottom" fmla="*/ 136764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8840" y="495288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38840" y="315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2743200"/>
            <a:ext cx="2133720" cy="175248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385200 h 1752480"/>
              <a:gd name="textAreaBottom" fmla="*/ 13672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05480" y="5526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0800000">
            <a:off x="5714640" y="4800600"/>
            <a:ext cx="2133720" cy="175248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385200 h 1752480"/>
              <a:gd name="textAreaBottom" fmla="*/ 13672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83000" y="3751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3962520"/>
            <a:ext cx="914400" cy="609480"/>
          </a:xfrm>
          <a:custGeom>
            <a:avLst/>
            <a:gdLst>
              <a:gd name="textAreaLeft" fmla="*/ 0 w 914400"/>
              <a:gd name="textAreaRight" fmla="*/ 914760 w 9144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574459"/>
                <a:lnTo>
                  <a:pt x="10252" y="14"/>
                </a:lnTo>
                <a:arcTo wR="10800" hR="10800" stAng="-5574459" swAng="5574459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5320" y="65160"/>
            <a:ext cx="40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:  Students will rotate fig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Rotations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otate a point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90° clockwi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switch the coordinates, then multiply the new y-coordinate by -1 (or just change the sig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otate a point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90°counterclockwi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switch the coordinates, then multiply the new x-coordinate by -1(or just change the sig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otate a point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80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multiply both coordinates by -1(or change both signs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3280" y="22860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:  Students will rotate fig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triangle FGH with vertices F(0,2),G(-3,1), and H(-1,1). Then draw the image after a 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 clockwise rotation about the origin. Name the coordinates of the rotated fig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efcd"/>
                </a:solidFill>
                <a:latin typeface="Arial"/>
              </a:rPr>
              <a:t>Rotating a Figure - Clockwise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495680" y="2286000"/>
            <a:ext cx="3962520" cy="3849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31840" y="0"/>
            <a:ext cx="40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:  Students will rotate fig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triangle FGH with vertices F(0,2),G(-3,1), and H(-1,1). Then draw the image after a 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 counterclockwise rotation about the origin. Name the coordinates of the rotated fig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5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efcd"/>
                </a:solidFill>
                <a:latin typeface="Arial"/>
              </a:rPr>
              <a:t>Rotating a Figure - </a:t>
            </a:r>
            <a:r>
              <a:rPr b="1" lang="en-US" sz="3600" spc="-1" strike="noStrike">
                <a:solidFill>
                  <a:srgbClr val="e2efcd"/>
                </a:solidFill>
                <a:latin typeface="Arial"/>
              </a:rPr>
              <a:t>Counterclockwise</a:t>
            </a:r>
            <a:endParaRPr b="0" lang="en-US" sz="36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962520" cy="3849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8000" y="-71280"/>
            <a:ext cx="40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:  Students will rotate fig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triangle FGH with vertices F(0,2),G(-3,1), and H(-1,1). Then draw the image after a 18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 rotation about the origin. Name the coordinates of the rotated fig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efcd"/>
                </a:solidFill>
                <a:latin typeface="Arial"/>
              </a:rPr>
              <a:t>Rotating a Figure - 180</a:t>
            </a:r>
            <a:r>
              <a:rPr b="1" lang="en-US" sz="4000" spc="-1" strike="noStrike" baseline="30000">
                <a:solidFill>
                  <a:srgbClr val="e2efcd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495680" y="2286000"/>
            <a:ext cx="3962520" cy="38498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55520" y="152280"/>
            <a:ext cx="40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:  Students will rotate fig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Exit Ticke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your exit ticket has been turned in, you may begin your homework:  PW pg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7:23:40Z</dcterms:created>
  <dc:creator>ccps</dc:creator>
  <dc:description/>
  <dc:language>en-US</dc:language>
  <cp:lastModifiedBy>Brian McGrath</cp:lastModifiedBy>
  <dcterms:modified xsi:type="dcterms:W3CDTF">2011-05-03T03:13:27Z</dcterms:modified>
  <cp:revision>11</cp:revision>
  <dc:subject/>
  <dc:title>Obj 10.7:  To identify transformations in figures.</dc:title>
</cp:coreProperties>
</file>